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driveby.wav" ContentType="audio/x-wav"/>
  <Override PartName="/ppt/media/image15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654-A1CF-4188-9AF7-A44FFAC8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B68-85CF-49BF-9B30-E4B34E31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FDE-74BF-4861-8EF1-31056340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FC5-AAD2-4634-883E-B5926FFB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AD57-E027-4555-AFB5-472699E6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3157-1284-44DB-B8F4-1FFA7E52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DEF5-1F6D-42FB-BB71-7D30870A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01D2-0A5F-4EAA-A2D7-7620BFB3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435C-4C70-4E35-9896-ACB7DADF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7452-11AA-4CB7-9C8B-FE6C7F70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B34E-1057-42D5-970B-4679DA47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D16-4F89-4B7B-9F54-EDD24275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1D20-93BB-495A-9D2A-667D06B5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E61A-9FD1-4EC1-9F54-E7663401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386F-4456-4A7A-8C9D-E9B68500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22AF-D983-48D8-81F2-C13A15B8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4A7C-1A86-4E12-8457-EC72875A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A81-A770-4156-8BCF-9C5B1234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CFB-1E64-4501-ACD7-4512AB64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E7D-4A91-4A22-9D39-EDA1F41C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EA1-9AFD-48F9-9693-EBBDAAC8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EB6-C20F-462A-B59E-923BFFB7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BCE-4344-4CDD-B03D-62BE54FC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2A1-FB4D-4575-B6E6-1FAB8562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488E-BB21-433F-A7D1-197E52FABD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2B11-A1CE-40BF-8895-3421B72231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-45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cc"/>
                </a:solidFill>
                <a:latin typeface="Comic Sans MS"/>
              </a:rPr>
              <a:t>Stopping distances for c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rash.mp3" descr=""/>
          <p:cNvPicPr/>
          <p:nvPr/>
        </p:nvPicPr>
        <p:blipFill>
          <a:blip r:embed="rId1"/>
          <a:stretch/>
        </p:blipFill>
        <p:spPr>
          <a:xfrm>
            <a:off x="39528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rcRect l="2079" t="28621" r="7865" b="13671"/>
          <a:stretch/>
        </p:blipFill>
        <p:spPr>
          <a:xfrm>
            <a:off x="0" y="1195560"/>
            <a:ext cx="9072720" cy="56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Would you like a c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692360" y="1860480"/>
            <a:ext cx="5616360" cy="422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2987640" y="2852640"/>
            <a:ext cx="3540240" cy="292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Visit nice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26624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Well, you need to pass your test</a:t>
            </a:r>
            <a:br>
              <a:rPr sz="4000"/>
            </a:b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first!</a:t>
            </a:r>
            <a:br>
              <a:rPr sz="4000"/>
            </a:b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A written exam and a practical ex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492360" y="4005360"/>
            <a:ext cx="2449800" cy="23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opping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1752480"/>
            <a:ext cx="9144000" cy="1219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04812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Webdings"/>
                <a:ea typeface="Webdings"/>
              </a:rPr>
              <a:t>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752480" y="1828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ebdings"/>
                <a:ea typeface="Webdings"/>
              </a:rPr>
              <a:t>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09480" y="327672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inking distance is the distance a car travels before the brakes are applie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914400" y="327672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raking distance is the distance a car travels whilst the brakes are being applie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457200" y="5638680"/>
            <a:ext cx="838188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opping distance = thinking distance + braking dista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716292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60958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365760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6248520" y="3733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3809880" y="3733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3809880" y="4800600"/>
            <a:ext cx="33530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4114800" y="44956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opping distan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41148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raking distan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5867280" y="38098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nking distan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914400" y="990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long does it take a moving vehicle to stop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09480" y="327672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e stopping distance is the sum of the thinking distance and the braking distance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raking d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4220640"/>
            <a:ext cx="8229600" cy="168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e distance the car travels during its deceleration, whilst the brakes are being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68360" y="1197000"/>
            <a:ext cx="8229600" cy="1612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distance the car travels in the split second between a hazard appearing and the driver applying the brak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inking distanc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1612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total stopping distance = </a:t>
            </a:r>
            <a:r>
              <a:rPr b="0" lang="en-GB" sz="3600" spc="-1" strike="noStrike">
                <a:solidFill>
                  <a:srgbClr val="808080"/>
                </a:solidFill>
                <a:latin typeface="Comic Sans MS"/>
              </a:rPr>
              <a:t>thinking distanc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breaking d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79280" y="2852640"/>
            <a:ext cx="1368360" cy="649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284720" y="2924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0m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76360" y="4149720"/>
            <a:ext cx="13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50920" y="3573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9m   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547640" y="2852640"/>
            <a:ext cx="237672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1547640" y="3573360"/>
            <a:ext cx="33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4m = 6 car length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250920" y="4292640"/>
            <a:ext cx="2087640" cy="64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2268360" y="4292640"/>
            <a:ext cx="403236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6588000" y="436572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0m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50920" y="5013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5m +                  38m = 13 car length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179280" y="5589720"/>
            <a:ext cx="3456000" cy="64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3635280" y="5589720"/>
            <a:ext cx="507708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7524720" y="6381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70m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79280" y="6308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21m +                               75m = 24 car length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Line 21"/>
          <p:cNvSpPr/>
          <p:nvPr/>
        </p:nvSpPr>
        <p:spPr>
          <a:xfrm>
            <a:off x="179280" y="3141720"/>
            <a:ext cx="374508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Line 22"/>
          <p:cNvSpPr/>
          <p:nvPr/>
        </p:nvSpPr>
        <p:spPr>
          <a:xfrm>
            <a:off x="250920" y="4581360"/>
            <a:ext cx="60498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179280" y="5950080"/>
            <a:ext cx="842508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AutoShape 24"/>
          <p:cNvSpPr/>
          <p:nvPr/>
        </p:nvSpPr>
        <p:spPr>
          <a:xfrm>
            <a:off x="7956720" y="2276640"/>
            <a:ext cx="863280" cy="936360"/>
          </a:xfrm>
          <a:custGeom>
            <a:avLst/>
            <a:gdLst>
              <a:gd name="textAreaLeft" fmla="*/ 55800 w 863280"/>
              <a:gd name="textAreaRight" fmla="*/ 807480 w 863280"/>
              <a:gd name="textAreaTop" fmla="*/ 55800 h 936360"/>
              <a:gd name="textAreaBottom" fmla="*/ 880560 h 936360"/>
            </a:gdLst>
            <a:ahLst/>
            <a:rect l="textAreaLeft" t="textAreaTop" r="textAreaRight" b="textAreaBottom"/>
            <a:pathLst>
              <a:path w="21600" h="23428">
                <a:moveTo>
                  <a:pt x="0" y="0"/>
                </a:moveTo>
                <a:lnTo>
                  <a:pt x="21600" y="0"/>
                </a:lnTo>
                <a:lnTo>
                  <a:pt x="21600" y="23428"/>
                </a:lnTo>
                <a:lnTo>
                  <a:pt x="0" y="23428"/>
                </a:lnTo>
                <a:close/>
              </a:path>
              <a:path fill="lightenLess" w="21600" h="234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28">
                <a:moveTo>
                  <a:pt x="21600" y="0"/>
                </a:moveTo>
                <a:lnTo>
                  <a:pt x="21600" y="23428"/>
                </a:lnTo>
                <a:lnTo>
                  <a:pt x="20200" y="22028"/>
                </a:lnTo>
                <a:lnTo>
                  <a:pt x="20200" y="1400"/>
                </a:lnTo>
                <a:close/>
              </a:path>
              <a:path fill="darkenLess" w="21600" h="23428">
                <a:moveTo>
                  <a:pt x="21600" y="23428"/>
                </a:moveTo>
                <a:lnTo>
                  <a:pt x="0" y="23428"/>
                </a:lnTo>
                <a:lnTo>
                  <a:pt x="1400" y="22028"/>
                </a:lnTo>
                <a:lnTo>
                  <a:pt x="20200" y="22028"/>
                </a:lnTo>
                <a:close/>
              </a:path>
              <a:path fill="lighten" w="21600" h="23428">
                <a:moveTo>
                  <a:pt x="0" y="234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28"/>
                </a:lnTo>
                <a:close/>
              </a:path>
              <a:path fill="darken" w="21600" h="23428">
                <a:moveTo>
                  <a:pt x="10800" y="470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428">
                <a:moveTo>
                  <a:pt x="10800" y="508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428">
                <a:moveTo>
                  <a:pt x="8224" y="9138"/>
                </a:moveTo>
                <a:lnTo>
                  <a:pt x="12088" y="9138"/>
                </a:lnTo>
                <a:lnTo>
                  <a:pt x="12088" y="16135"/>
                </a:lnTo>
                <a:lnTo>
                  <a:pt x="13376" y="16135"/>
                </a:lnTo>
                <a:lnTo>
                  <a:pt x="13376" y="17058"/>
                </a:lnTo>
                <a:lnTo>
                  <a:pt x="8224" y="17058"/>
                </a:lnTo>
                <a:lnTo>
                  <a:pt x="8224" y="16135"/>
                </a:lnTo>
                <a:lnTo>
                  <a:pt x="9512" y="16135"/>
                </a:lnTo>
                <a:lnTo>
                  <a:pt x="9512" y="10043"/>
                </a:lnTo>
                <a:lnTo>
                  <a:pt x="8224" y="100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inking d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is affected by 3 main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ow fast you are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eing wide awake – drugs, tiredness, alcohol, carelessness and old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Visibility – rain, oncoming lights, fog and the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2005tv.mpeg" descr=""/>
          <p:cNvPicPr/>
          <p:nvPr/>
        </p:nvPicPr>
        <p:blipFill>
          <a:blip r:embed="rId1"/>
          <a:stretch/>
        </p:blipFill>
        <p:spPr>
          <a:xfrm>
            <a:off x="3048120" y="27194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29048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3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lowdown.mpeg" descr=""/>
          <p:cNvPicPr/>
          <p:nvPr/>
        </p:nvPicPr>
        <p:blipFill>
          <a:blip r:embed="rId1"/>
          <a:stretch/>
        </p:blipFill>
        <p:spPr>
          <a:xfrm>
            <a:off x="3048120" y="27194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3073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4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raking d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is affected by 4 main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fast you are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 mass (or load) of the veh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the car is poorly maintained – brakes and tyres (groves in tyres – 1.6mm de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grip of the road surface – on a wet road you can skid twice a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2" dur="1" fill="hold"/>
                                  <p:tgtEl>
                                    <p:spTgt spid="1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04000" cy="5130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547640" y="5805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uilt up area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AutoShape 4">
            <a:hlinkClick r:id="" action="ppaction://hlinkshowjump?jump=nextslide"/>
          </p:cNvPr>
          <p:cNvSpPr/>
          <p:nvPr/>
        </p:nvSpPr>
        <p:spPr>
          <a:xfrm>
            <a:off x="1547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AutoShape 5">
            <a:hlinkClick r:id="" action="ppaction://hlinkshowjump?jump=previousslide"/>
          </p:cNvPr>
          <p:cNvSpPr/>
          <p:nvPr/>
        </p:nvSpPr>
        <p:spPr>
          <a:xfrm>
            <a:off x="97164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about brak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friction is absent during braking, the wheels will lock – they will stop tu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is very dangerous – mainly because the car will slide, but also because the car cannot be ste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627280" y="4941720"/>
            <a:ext cx="41054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Forces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629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n you match up the words with their defini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09480" y="1600200"/>
            <a:ext cx="3657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pping distan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nking distan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aking distan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876920" y="1571760"/>
            <a:ext cx="388620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f forces the road exerts on the tyres as the car is stoppin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stance a car travels whilst it is brakin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stance a car travels before the brakes are applied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um of thinking distanc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braking distanc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3809880" y="2057400"/>
            <a:ext cx="1067040" cy="335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Line 6"/>
          <p:cNvSpPr/>
          <p:nvPr/>
        </p:nvSpPr>
        <p:spPr>
          <a:xfrm flipV="1">
            <a:off x="3429000" y="19051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3962520" y="44956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Line 8"/>
          <p:cNvSpPr/>
          <p:nvPr/>
        </p:nvSpPr>
        <p:spPr>
          <a:xfrm flipV="1">
            <a:off x="3809880" y="3200400"/>
            <a:ext cx="1219320" cy="23623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factors affect braking and thinking 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787320"/>
          <a:ext cx="6096240" cy="3216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ing dist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king dist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Text Box 23"/>
          <p:cNvSpPr/>
          <p:nvPr/>
        </p:nvSpPr>
        <p:spPr>
          <a:xfrm>
            <a:off x="457200" y="4876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peed of c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1752480" y="1447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ed of c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4724280" y="1447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ed of c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1219320" y="5562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Road condi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Text Box 27"/>
          <p:cNvSpPr/>
          <p:nvPr/>
        </p:nvSpPr>
        <p:spPr>
          <a:xfrm>
            <a:off x="4724280" y="2133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ad condi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28"/>
          <p:cNvSpPr/>
          <p:nvPr/>
        </p:nvSpPr>
        <p:spPr>
          <a:xfrm>
            <a:off x="5410080" y="4876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Drugs and alcoho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Text Box 29"/>
          <p:cNvSpPr/>
          <p:nvPr/>
        </p:nvSpPr>
        <p:spPr>
          <a:xfrm>
            <a:off x="137160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s and alcoho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4572000" y="5638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iredn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1447920" y="2819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redn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 Box 32"/>
          <p:cNvSpPr/>
          <p:nvPr/>
        </p:nvSpPr>
        <p:spPr>
          <a:xfrm>
            <a:off x="1143000" y="4343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Med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Text Box 33"/>
          <p:cNvSpPr/>
          <p:nvPr/>
        </p:nvSpPr>
        <p:spPr>
          <a:xfrm>
            <a:off x="13716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34"/>
          <p:cNvSpPr/>
          <p:nvPr/>
        </p:nvSpPr>
        <p:spPr>
          <a:xfrm>
            <a:off x="4648320" y="43434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Condition of tyr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35"/>
          <p:cNvSpPr/>
          <p:nvPr/>
        </p:nvSpPr>
        <p:spPr>
          <a:xfrm>
            <a:off x="44956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of tyr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 Box 36"/>
          <p:cNvSpPr/>
          <p:nvPr/>
        </p:nvSpPr>
        <p:spPr>
          <a:xfrm>
            <a:off x="2971800" y="6095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Condition of brak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4419720" y="34290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of brak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4462560" cy="5950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183280" y="1989000"/>
            <a:ext cx="3960720" cy="253872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6"/>
          <p:cNvGrpSpPr/>
          <p:nvPr/>
        </p:nvGrpSpPr>
        <p:grpSpPr>
          <a:xfrm>
            <a:off x="1979640" y="1628640"/>
            <a:ext cx="1793880" cy="2010960"/>
            <a:chOff x="1979640" y="1628640"/>
            <a:chExt cx="1793880" cy="2010960"/>
          </a:xfrm>
        </p:grpSpPr>
        <p:pic>
          <p:nvPicPr>
            <p:cNvPr id="204" name="Picture 15" descr=""/>
            <p:cNvPicPr/>
            <p:nvPr/>
          </p:nvPicPr>
          <p:blipFill>
            <a:blip r:embed="rId3"/>
            <a:srcRect l="0" t="18917" r="0" b="0"/>
            <a:stretch/>
          </p:blipFill>
          <p:spPr>
            <a:xfrm>
              <a:off x="1979640" y="2010240"/>
              <a:ext cx="1793880" cy="162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1" descr=""/>
            <p:cNvPicPr/>
            <p:nvPr/>
          </p:nvPicPr>
          <p:blipFill>
            <a:blip r:embed="rId4"/>
            <a:stretch/>
          </p:blipFill>
          <p:spPr>
            <a:xfrm>
              <a:off x="2757240" y="1628640"/>
              <a:ext cx="324360" cy="53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Group 17"/>
          <p:cNvGrpSpPr/>
          <p:nvPr/>
        </p:nvGrpSpPr>
        <p:grpSpPr>
          <a:xfrm>
            <a:off x="1042920" y="4292640"/>
            <a:ext cx="2734920" cy="1582200"/>
            <a:chOff x="1042920" y="4292640"/>
            <a:chExt cx="2734920" cy="1582200"/>
          </a:xfrm>
        </p:grpSpPr>
        <p:sp>
          <p:nvSpPr>
            <p:cNvPr id="207" name="Oval 18"/>
            <p:cNvSpPr/>
            <p:nvPr/>
          </p:nvSpPr>
          <p:spPr>
            <a:xfrm>
              <a:off x="1042920" y="4292640"/>
              <a:ext cx="2734920" cy="15822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8" name="Text Box 19"/>
            <p:cNvSpPr/>
            <p:nvPr/>
          </p:nvSpPr>
          <p:spPr>
            <a:xfrm>
              <a:off x="1277280" y="4689720"/>
              <a:ext cx="2266200" cy="10598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What effects the thinking distance?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4947480" y="2596320"/>
            <a:ext cx="1804680" cy="1780200"/>
            <a:chOff x="4947480" y="2596320"/>
            <a:chExt cx="1804680" cy="1780200"/>
          </a:xfrm>
        </p:grpSpPr>
        <p:pic>
          <p:nvPicPr>
            <p:cNvPr id="210" name="Picture 21" descr=""/>
            <p:cNvPicPr/>
            <p:nvPr/>
          </p:nvPicPr>
          <p:blipFill>
            <a:blip r:embed="rId5">
              <a:lum bright="-6000"/>
            </a:blip>
            <a:srcRect l="0" t="18917" r="0" b="0"/>
            <a:stretch/>
          </p:blipFill>
          <p:spPr>
            <a:xfrm rot="2518200">
              <a:off x="5132880" y="2933640"/>
              <a:ext cx="14335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2" descr=""/>
            <p:cNvPicPr/>
            <p:nvPr/>
          </p:nvPicPr>
          <p:blipFill>
            <a:blip r:embed="rId6">
              <a:lum bright="-6000"/>
            </a:blip>
            <a:stretch/>
          </p:blipFill>
          <p:spPr>
            <a:xfrm rot="2518200">
              <a:off x="6166080" y="2859120"/>
              <a:ext cx="259200" cy="36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23"/>
          <p:cNvGrpSpPr/>
          <p:nvPr/>
        </p:nvGrpSpPr>
        <p:grpSpPr>
          <a:xfrm>
            <a:off x="3780000" y="476280"/>
            <a:ext cx="3023640" cy="1604520"/>
            <a:chOff x="3780000" y="476280"/>
            <a:chExt cx="3023640" cy="1604520"/>
          </a:xfrm>
        </p:grpSpPr>
        <p:sp>
          <p:nvSpPr>
            <p:cNvPr id="213" name="Oval 24"/>
            <p:cNvSpPr/>
            <p:nvPr/>
          </p:nvSpPr>
          <p:spPr>
            <a:xfrm>
              <a:off x="3780000" y="476280"/>
              <a:ext cx="3023640" cy="16045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4" name="Text Box 25"/>
            <p:cNvSpPr/>
            <p:nvPr/>
          </p:nvSpPr>
          <p:spPr>
            <a:xfrm>
              <a:off x="4039200" y="877320"/>
              <a:ext cx="2505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ffffff"/>
                  </a:solidFill>
                  <a:latin typeface="Comic Sans MS"/>
                </a:rPr>
                <a:t>What effects the braking  distance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5" name="Rectangle 26"/>
          <p:cNvSpPr/>
          <p:nvPr/>
        </p:nvSpPr>
        <p:spPr>
          <a:xfrm>
            <a:off x="0" y="5589720"/>
            <a:ext cx="237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0" y="3789360"/>
            <a:ext cx="24130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Rectangle 28"/>
          <p:cNvSpPr/>
          <p:nvPr/>
        </p:nvSpPr>
        <p:spPr>
          <a:xfrm>
            <a:off x="2627280" y="5589720"/>
            <a:ext cx="237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29"/>
          <p:cNvSpPr/>
          <p:nvPr/>
        </p:nvSpPr>
        <p:spPr>
          <a:xfrm>
            <a:off x="2843280" y="3789360"/>
            <a:ext cx="237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2987640" y="189000"/>
            <a:ext cx="223200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3348000" y="1628640"/>
            <a:ext cx="252108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Rectangle 32"/>
          <p:cNvSpPr/>
          <p:nvPr/>
        </p:nvSpPr>
        <p:spPr>
          <a:xfrm>
            <a:off x="5580000" y="189000"/>
            <a:ext cx="244800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Rectangle 33"/>
          <p:cNvSpPr/>
          <p:nvPr/>
        </p:nvSpPr>
        <p:spPr>
          <a:xfrm>
            <a:off x="6227640" y="1628640"/>
            <a:ext cx="2448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5796000" y="4365720"/>
            <a:ext cx="309708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5867280" y="4437000"/>
            <a:ext cx="1871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y do bal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yres increa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stopping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istanc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f a car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Line 37"/>
          <p:cNvSpPr/>
          <p:nvPr/>
        </p:nvSpPr>
        <p:spPr>
          <a:xfrm flipV="1">
            <a:off x="6659640" y="4005000"/>
            <a:ext cx="14436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Stopping a c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276720" y="4648320"/>
            <a:ext cx="2666880" cy="1523880"/>
            <a:chOff x="3276720" y="4648320"/>
            <a:chExt cx="2666880" cy="1523880"/>
          </a:xfrm>
        </p:grpSpPr>
        <p:sp>
          <p:nvSpPr>
            <p:cNvPr id="228" name="Oval 4"/>
            <p:cNvSpPr/>
            <p:nvPr/>
          </p:nvSpPr>
          <p:spPr>
            <a:xfrm>
              <a:off x="3276720" y="4648320"/>
              <a:ext cx="2666880" cy="15238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9" name="Text Box 5"/>
            <p:cNvSpPr/>
            <p:nvPr/>
          </p:nvSpPr>
          <p:spPr>
            <a:xfrm>
              <a:off x="3505320" y="502920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Comic Sans MS"/>
                </a:rPr>
                <a:t>Braking  distance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30" name="AutoShape 6"/>
          <p:cNvSpPr/>
          <p:nvPr/>
        </p:nvSpPr>
        <p:spPr>
          <a:xfrm>
            <a:off x="7010280" y="1219320"/>
            <a:ext cx="1847880" cy="857160"/>
          </a:xfrm>
          <a:prstGeom prst="borderCallout1">
            <a:avLst>
              <a:gd name="adj1" fmla="val 18750"/>
              <a:gd name="adj2" fmla="val -8333"/>
              <a:gd name="adj3" fmla="val 111111"/>
              <a:gd name="adj4" fmla="val -587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o much alcoho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1" name="Group 7"/>
          <p:cNvGrpSpPr/>
          <p:nvPr/>
        </p:nvGrpSpPr>
        <p:grpSpPr>
          <a:xfrm>
            <a:off x="3276720" y="1523880"/>
            <a:ext cx="2666880" cy="1524240"/>
            <a:chOff x="3276720" y="1523880"/>
            <a:chExt cx="2666880" cy="1524240"/>
          </a:xfrm>
        </p:grpSpPr>
        <p:sp>
          <p:nvSpPr>
            <p:cNvPr id="232" name="Oval 8"/>
            <p:cNvSpPr/>
            <p:nvPr/>
          </p:nvSpPr>
          <p:spPr>
            <a:xfrm>
              <a:off x="3276720" y="1523880"/>
              <a:ext cx="2666880" cy="15242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Text Box 9"/>
            <p:cNvSpPr/>
            <p:nvPr/>
          </p:nvSpPr>
          <p:spPr>
            <a:xfrm>
              <a:off x="3505320" y="1905120"/>
              <a:ext cx="2209680" cy="8254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Comic Sans MS"/>
                </a:rPr>
                <a:t>Thinking distance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34" name="AutoShape 10"/>
          <p:cNvSpPr/>
          <p:nvPr/>
        </p:nvSpPr>
        <p:spPr>
          <a:xfrm>
            <a:off x="457200" y="1219320"/>
            <a:ext cx="1847880" cy="533160"/>
          </a:xfrm>
          <a:prstGeom prst="borderCallout1">
            <a:avLst>
              <a:gd name="adj1" fmla="val 18750"/>
              <a:gd name="adj2" fmla="val -8333"/>
              <a:gd name="adj3" fmla="val 139287"/>
              <a:gd name="adj4" fmla="val 15669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iredn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533520" y="2362320"/>
            <a:ext cx="1847880" cy="857160"/>
          </a:xfrm>
          <a:prstGeom prst="borderCallout1">
            <a:avLst>
              <a:gd name="adj1" fmla="val 18750"/>
              <a:gd name="adj2" fmla="val -8333"/>
              <a:gd name="adj3" fmla="val 4444"/>
              <a:gd name="adj4" fmla="val 14742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o many drug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AutoShape 12"/>
          <p:cNvSpPr/>
          <p:nvPr/>
        </p:nvSpPr>
        <p:spPr>
          <a:xfrm>
            <a:off x="6858000" y="4267080"/>
            <a:ext cx="1847880" cy="457200"/>
          </a:xfrm>
          <a:prstGeom prst="borderCallout1">
            <a:avLst>
              <a:gd name="adj1" fmla="val 18750"/>
              <a:gd name="adj2" fmla="val -8333"/>
              <a:gd name="adj3" fmla="val 145833"/>
              <a:gd name="adj4" fmla="val -61856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et roa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7010280" y="5638680"/>
            <a:ext cx="1847880" cy="857520"/>
          </a:xfrm>
          <a:prstGeom prst="borderCallout1">
            <a:avLst>
              <a:gd name="adj1" fmla="val 18750"/>
              <a:gd name="adj2" fmla="val -8333"/>
              <a:gd name="adj3" fmla="val -11111"/>
              <a:gd name="adj4" fmla="val -587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riving too fa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AutoShape 14"/>
          <p:cNvSpPr/>
          <p:nvPr/>
        </p:nvSpPr>
        <p:spPr>
          <a:xfrm>
            <a:off x="380880" y="5619600"/>
            <a:ext cx="2210040" cy="857520"/>
          </a:xfrm>
          <a:prstGeom prst="borderCallout1">
            <a:avLst>
              <a:gd name="adj1" fmla="val 18750"/>
              <a:gd name="adj2" fmla="val -8333"/>
              <a:gd name="adj3" fmla="val 0"/>
              <a:gd name="adj4" fmla="val 13103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yres/brakes worn ou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AutoShape 15"/>
          <p:cNvSpPr/>
          <p:nvPr/>
        </p:nvSpPr>
        <p:spPr>
          <a:xfrm>
            <a:off x="457200" y="4419720"/>
            <a:ext cx="1847880" cy="533160"/>
          </a:xfrm>
          <a:prstGeom prst="borderCallout1">
            <a:avLst>
              <a:gd name="adj1" fmla="val 18750"/>
              <a:gd name="adj2" fmla="val -8333"/>
              <a:gd name="adj3" fmla="val 139287"/>
              <a:gd name="adj4" fmla="val 154638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cy roa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AutoShape 16"/>
          <p:cNvSpPr/>
          <p:nvPr/>
        </p:nvSpPr>
        <p:spPr>
          <a:xfrm>
            <a:off x="7010280" y="2438280"/>
            <a:ext cx="1847880" cy="857520"/>
          </a:xfrm>
          <a:prstGeom prst="borderCallout1">
            <a:avLst>
              <a:gd name="adj1" fmla="val 18750"/>
              <a:gd name="adj2" fmla="val -8333"/>
              <a:gd name="adj3" fmla="val 28888"/>
              <a:gd name="adj4" fmla="val -69074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or visibil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can an icy road increase the stopping distance of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88000" y="184464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s little friction between the road and your tyres. Forces are unbalanced and you will keep going forward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338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could you do to prevent skidding into another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duce your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o bald tyres increase the stopping distance of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788000" y="184464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s little friction between the road and your tyres. Forces are unbalanced and you will keep going forward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2479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king car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0" y="685800"/>
            <a:ext cx="853452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A car is moving along an open road. Suddenly, a sheep walks into the road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79440" indent="-379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do we call the distance the car travels before the driver puts their foot on the brakes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79440" indent="-379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79440" indent="-379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 one factor that could increase the distance the car travels in this tim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79440" indent="-379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572000" y="2133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Thinking distan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457200" y="34290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Medication, drugs/alcohol, speed of car, tirednes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king car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0" y="685800"/>
            <a:ext cx="853452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A car is moving along an open road. Suddenly, a sheep walks into the road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79440" indent="-379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do we call the distance the car travels before the driver puts their foot on the brakes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79440" indent="-379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79440" indent="-379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 one factor that could increase the distance the car travels in this tim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79440" indent="-379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4859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547640" y="5805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uilt up area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AutoShape 4">
            <a:hlinkClick r:id="" action="ppaction://hlinkshowjump?jump=nextslide"/>
          </p:cNvPr>
          <p:cNvSpPr/>
          <p:nvPr/>
        </p:nvSpPr>
        <p:spPr>
          <a:xfrm>
            <a:off x="1547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AutoShape 5">
            <a:hlinkClick r:id="" action="ppaction://hlinkshowjump?jump=previousslide"/>
          </p:cNvPr>
          <p:cNvSpPr/>
          <p:nvPr/>
        </p:nvSpPr>
        <p:spPr>
          <a:xfrm>
            <a:off x="97164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king car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0" y="685800"/>
            <a:ext cx="853452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A car is moving along an open road. Suddenly, a sheep walks into the road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79440" indent="-379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do we call the distance the car travels before the driver puts their foot on the brakes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79440" indent="-379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79440" indent="-379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 one factor that could increase the distance the car travels in this tim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79440" indent="-379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Speed 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0" y="1700280"/>
            <a:ext cx="2521080" cy="3024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2771640" y="2060640"/>
            <a:ext cx="3414960" cy="25574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7"/>
          <p:cNvSpPr/>
          <p:nvPr/>
        </p:nvSpPr>
        <p:spPr>
          <a:xfrm>
            <a:off x="1763640" y="5013360"/>
            <a:ext cx="49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other measures are taken to stop motorists from speeding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3"/>
          <a:stretch/>
        </p:blipFill>
        <p:spPr>
          <a:xfrm>
            <a:off x="6286680" y="2060640"/>
            <a:ext cx="28573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inking d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1612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distance the car travels in the split second between a hazard appearing and the driver applying the br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476360" y="2924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action tim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Text Box 113"/>
          <p:cNvSpPr/>
          <p:nvPr/>
        </p:nvSpPr>
        <p:spPr>
          <a:xfrm>
            <a:off x="611280" y="3645000"/>
            <a:ext cx="8208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can test your reactions by holding the top of a 30cm ruler, hanging vertically between a partners finger and thumb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you let go (no warning) your partner has to grip the ruler as quickly as possib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lower your partner's reaction time the further the ruler will fall or use a reaction timer on the comput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29800" cy="5524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619280" y="59500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gle carriageway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AutoShape 4">
            <a:hlinkClick r:id="" action="ppaction://hlinkshowjump?jump=nextslide"/>
          </p:cNvPr>
          <p:cNvSpPr/>
          <p:nvPr/>
        </p:nvSpPr>
        <p:spPr>
          <a:xfrm>
            <a:off x="1547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AutoShape 5">
            <a:hlinkClick r:id="" action="ppaction://hlinkshowjump?jump=previousslide"/>
          </p:cNvPr>
          <p:cNvSpPr/>
          <p:nvPr/>
        </p:nvSpPr>
        <p:spPr>
          <a:xfrm>
            <a:off x="97164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64720" cy="5376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619280" y="59500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al carriageway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AutoShape 4">
            <a:hlinkClick r:id="" action="ppaction://hlinkshowjump?jump=nextslide"/>
          </p:cNvPr>
          <p:cNvSpPr/>
          <p:nvPr/>
        </p:nvSpPr>
        <p:spPr>
          <a:xfrm>
            <a:off x="1547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AutoShape 5">
            <a:hlinkClick r:id="" action="ppaction://hlinkshowjump?jump=previousslide"/>
          </p:cNvPr>
          <p:cNvSpPr/>
          <p:nvPr/>
        </p:nvSpPr>
        <p:spPr>
          <a:xfrm>
            <a:off x="97164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272360" cy="50817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2268360" y="580536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torway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AutoShape 4">
            <a:hlinkClick r:id="" action="ppaction://hlinkshowjump?jump=nextslide"/>
          </p:cNvPr>
          <p:cNvSpPr/>
          <p:nvPr/>
        </p:nvSpPr>
        <p:spPr>
          <a:xfrm>
            <a:off x="1547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AutoShape 5">
            <a:hlinkClick r:id="" action="ppaction://hlinkshowjump?jump=previousslide"/>
          </p:cNvPr>
          <p:cNvSpPr/>
          <p:nvPr/>
        </p:nvSpPr>
        <p:spPr>
          <a:xfrm>
            <a:off x="97164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types of roads have different speed lim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 you think this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"/>
              </a:rPr>
              <a:t>Lesson objective: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</a:rPr>
              <a:t>know your stopping dist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sson outco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te what is the meaning of 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brak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istance,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thinking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stopp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be what can affect the 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braking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,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thinking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stopp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plain – using forces, how the affect increases the 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braking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, thinking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istanc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stopping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0" y="2060640"/>
            <a:ext cx="1295280" cy="1079280"/>
          </a:xfrm>
          <a:custGeom>
            <a:avLst/>
            <a:gdLst/>
            <a:ahLst/>
            <a:rect l="l" t="t" r="r" b="b"/>
            <a:pathLst>
              <a:path w="1295400" h="1079500">
                <a:moveTo>
                  <a:pt x="1" y="412331"/>
                </a:moveTo>
                <a:lnTo>
                  <a:pt x="494802" y="412334"/>
                </a:lnTo>
                <a:lnTo>
                  <a:pt x="647700" y="0"/>
                </a:lnTo>
                <a:lnTo>
                  <a:pt x="800598" y="412334"/>
                </a:lnTo>
                <a:lnTo>
                  <a:pt x="1295399" y="412331"/>
                </a:lnTo>
                <a:lnTo>
                  <a:pt x="895095" y="667165"/>
                </a:lnTo>
                <a:lnTo>
                  <a:pt x="1048000" y="1079497"/>
                </a:lnTo>
                <a:lnTo>
                  <a:pt x="647700" y="824659"/>
                </a:lnTo>
                <a:lnTo>
                  <a:pt x="247400" y="1079497"/>
                </a:lnTo>
                <a:lnTo>
                  <a:pt x="400305" y="667165"/>
                </a:lnTo>
                <a:lnTo>
                  <a:pt x="1" y="41233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0" y="3357720"/>
            <a:ext cx="1295280" cy="1079280"/>
          </a:xfrm>
          <a:custGeom>
            <a:avLst/>
            <a:gdLst/>
            <a:ahLst/>
            <a:rect l="l" t="t" r="r" b="b"/>
            <a:pathLst>
              <a:path w="1295400" h="1079500">
                <a:moveTo>
                  <a:pt x="1" y="412331"/>
                </a:moveTo>
                <a:lnTo>
                  <a:pt x="494802" y="412334"/>
                </a:lnTo>
                <a:lnTo>
                  <a:pt x="647700" y="0"/>
                </a:lnTo>
                <a:lnTo>
                  <a:pt x="800598" y="412334"/>
                </a:lnTo>
                <a:lnTo>
                  <a:pt x="1295399" y="412331"/>
                </a:lnTo>
                <a:lnTo>
                  <a:pt x="895095" y="667165"/>
                </a:lnTo>
                <a:lnTo>
                  <a:pt x="1048000" y="1079497"/>
                </a:lnTo>
                <a:lnTo>
                  <a:pt x="647700" y="824659"/>
                </a:lnTo>
                <a:lnTo>
                  <a:pt x="247400" y="1079497"/>
                </a:lnTo>
                <a:lnTo>
                  <a:pt x="400305" y="667165"/>
                </a:lnTo>
                <a:lnTo>
                  <a:pt x="1" y="412331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0" y="4508640"/>
            <a:ext cx="1295280" cy="1079280"/>
          </a:xfrm>
          <a:custGeom>
            <a:avLst/>
            <a:gdLst/>
            <a:ahLst/>
            <a:rect l="l" t="t" r="r" b="b"/>
            <a:pathLst>
              <a:path w="1295400" h="1079500">
                <a:moveTo>
                  <a:pt x="1" y="412331"/>
                </a:moveTo>
                <a:lnTo>
                  <a:pt x="494802" y="412334"/>
                </a:lnTo>
                <a:lnTo>
                  <a:pt x="647700" y="0"/>
                </a:lnTo>
                <a:lnTo>
                  <a:pt x="800598" y="412334"/>
                </a:lnTo>
                <a:lnTo>
                  <a:pt x="1295399" y="412331"/>
                </a:lnTo>
                <a:lnTo>
                  <a:pt x="895095" y="667165"/>
                </a:lnTo>
                <a:lnTo>
                  <a:pt x="1048000" y="1079497"/>
                </a:lnTo>
                <a:lnTo>
                  <a:pt x="647700" y="824659"/>
                </a:lnTo>
                <a:lnTo>
                  <a:pt x="247400" y="1079497"/>
                </a:lnTo>
                <a:lnTo>
                  <a:pt x="400305" y="667165"/>
                </a:lnTo>
                <a:lnTo>
                  <a:pt x="1" y="412331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action times.wmv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672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1:51:16Z</dcterms:created>
  <dc:creator>Sarah Birkenhead</dc:creator>
  <dc:description/>
  <dc:language>en-US</dc:language>
  <cp:lastModifiedBy>Sarah Birkenhead</cp:lastModifiedBy>
  <dcterms:modified xsi:type="dcterms:W3CDTF">2021-01-25T07:50:15Z</dcterms:modified>
  <cp:revision>27</cp:revision>
  <dc:subject/>
  <dc:title>Stopping distances for cars</dc:title>
</cp:coreProperties>
</file>